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7B5-F057-43F6-A777-3152C7F5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4D0-EE9E-4351-A7EE-2484BEDF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FAF-BB5E-4159-9FB7-5A64AF80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D23-8EEF-42C8-BF13-AB3047B9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40C0-ECF9-451E-8B1C-44DE89B2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DA63-D05D-422B-9733-0A20F2BB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8AB4-3661-4CCC-A114-4A953BBF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C15E-00AF-4402-A2EA-046CB3F2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66AB-CB51-4903-B5FD-37A1330A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E42D-45A7-4685-9C6D-F9F5ABF4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8F61-243B-4D2C-B5EC-E95B9AF3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20C-8083-40F1-986D-D935D6CB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11EA-69FC-40B8-989D-4B7BE042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D008-9A49-4B40-ACEA-487730D3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4DC7-7C28-4121-A422-049E7FF1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F5AC-88B4-43FC-84CC-3AB8C3F5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B2E2-405F-428E-8C64-BF9766DB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2BF-A21C-4492-8413-10E476B5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9E0-2639-44F3-8A52-40A33629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603-C690-423C-960C-32E63CEB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ACB-191E-486C-9BA9-05C8C391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9A9-1B22-456A-B6C4-8A1F4B45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A67-5E78-4503-8477-9909477C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B5F-AC81-483A-9716-04173E0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045D-AC2E-48FD-99B3-2C6865DEB588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F5C8-26EB-4794-BCEA-1ED94429DB3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80773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OS </a:t>
            </a:r>
            <a:br>
              <a:rPr sz="4800"/>
            </a:b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MÉTODOS</a:t>
            </a:r>
            <a:br>
              <a:rPr sz="4800"/>
            </a:b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DE</a:t>
            </a:r>
            <a:br>
              <a:rPr sz="4800"/>
            </a:b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ENSINO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3886200"/>
            <a:ext cx="586728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BÂNEO, J. Carlos.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dática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rtez, 1994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773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Atividades especia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m os métodos de ensino com objetivo de assimilação dos conteúdos. Jornal escolar, Museu escolar, Teatro, Biblioteca escolar, estudo do meio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Estudo do meio não se limita só aos passeios, mas a todos os procedimentos que possibilitem a discussão e compreensão do cotidiano. São necessárias 3 fas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ejamento – o que observar? Que perguntas poderão ser feitas? (O professor deverá fazer conhecer o loc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ção – observar, anotar, conversar com as pesso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oração dos resultados e avaliação – relatório, redação, sistematização pelo professor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773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Conceito de método de ensino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980640"/>
            <a:ext cx="8820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É o caminho para atingir um objetivo, com os meios adequados; (investigação científica; assimilação do conhecimento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er o objeto de estudo nas suas propriedades e relações com outros objetos e fenômenos e sob vários ângul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ão ações, passos e procedimentos vinculados a reflexão, compreensão e transformação da realidad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ão ações do professor pelas quais se organizam as atividades de ensino e dos alunos para atingir os objetiv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773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A escolha e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organização dos métod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000" y="1773000"/>
            <a:ext cx="8675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ve corresponder à necessária unidade objetivo-conteúdo-método. (um depende do outro para ter sucess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pendem dos conteúdos específic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 o conhecimento das características dos alunos quanto à capacidade de assimilação e quanto as suas características sócio-culturais e individuais; (ligação entre os objetivos e as condições de aprender do aluno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0769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rincípios básicos do ensi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820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 caráter científico e sistemático. (Ficar atento ao conteúdo científico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 compreensível e possível de ser assimilado. (Ver as condições dos alunos e ir dosando as dificuldades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segurar a relação conhecimento-prática. (Saber aplicar o conhecimento na sua vida prática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oiar-se na unidade ensino-aprendizagem. (Criar condições de ensino que resultem em aprendizagem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rantir a solidez dos conhecimentos. (Recapitulação, fixação, etc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ar à vinculação trabalho coletivo – particularidades individuais. (Educar a todos, observando as diferenç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Classificação dos métod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1341000"/>
            <a:ext cx="817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osição pelo profess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abalho independ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aboração conjunt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abalho em gru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ividades especiai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Método de exposição pelo professo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 exposição, o professor deve mobilizar a atividade interna do aluno de concentrar-se e de pensar articulando com outros procediment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posição verb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sua função é explicar um assunto desconhecido. O professor deverá estimular sentimentos, instigar a curiosidade, relatar sugestivamente um fato, descrever com vivacidade uma situação real, fazer leitura expressiva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emonstraçã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é a forma de representar fenômenos e processos reais (germinaçã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lustraçã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é uma forma de representar fatos e fenômenos reais através de gráficos, mapas, esquemas, gravuras, etc. (Requer dos alunos capacidade de concentração e observaçã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emplificaçã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é um meio de auxiliar a exposição verb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Método de trabalho independent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ividades realizadas pelos alunos, dirigidas (estudo dirigido) e orientadas pelo profess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que esse método seja eficiente, o professor precis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ar tarefas claras e acessíveis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ssegurar condições de trabalho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companhar de perto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proveitar o resultado para toda clas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Método de elaboração conjunta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8388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ção entre alunos e professor. É a conversação, aula dialogada, com elaboração de perguntas que leve os alunos a reflexã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Método de trabalho em grupo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b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os debatedores devem defender uma posiç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hilips 6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6 grupos de 6 pessoas discutem uma questão e apresentam a conclus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mpestade m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escrever no quadro o que vem em mente sobre determinado assunto, destacar o mais relevante e discut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upo de verbalizaçã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– grupo de observação (GV-GO)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a parte da turma forma um círculo para discutir o tema, outra parte fica em volta observa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minário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de ser exposição ou conversação sobre determinado assunto previamente estudado pelo gru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0:15:13Z</dcterms:created>
  <dc:creator>USUÁRIO - PT</dc:creator>
  <dc:description/>
  <dc:language>en-US</dc:language>
  <cp:lastModifiedBy>sistema</cp:lastModifiedBy>
  <dcterms:modified xsi:type="dcterms:W3CDTF">2010-07-15T20:01:44Z</dcterms:modified>
  <cp:revision>1</cp:revision>
  <dc:subject/>
  <dc:title>OS  MÉTODOS DE ENSINO</dc:title>
</cp:coreProperties>
</file>